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push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CA0-D88C-4578-9122-BC3D4999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894-C89C-4030-9865-20525A35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0CC5-00F2-4035-8D36-1F24E898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4D7A-C2D1-4551-B05E-FD19A5B1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401C-001F-4C28-836E-A545C156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A8F-3521-4618-B832-CFA4C9D0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958-5B60-4B20-AF5C-3DD5C3E0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E9E-BDAE-462D-9518-C1A9D571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AF58-B44D-43D4-976A-B04EAF0E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3334-F40C-4773-B9CC-41AF987C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38D2-8B63-45A8-B249-8C84F384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D2C-552D-4BCE-BAF5-43A4ED1E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2589-12F2-4B08-8269-5C12561B2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640-D8B7-43B4-9897-AEBEFF0F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37CE-0B08-4221-932F-1FC36B3D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4B73-D095-459C-A906-9FD8124C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CA3B-C065-45D1-99C8-966F2C3A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49DC-FA3F-468E-BBA4-7A42FDC8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C78-36A8-453F-A45E-D4C5F53B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77F-383B-463E-B16C-A467DCD9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AD3-4557-41D5-9E9D-FC9045C2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121-9653-435F-A399-E504F44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4FA-1CAD-457D-9BDF-77515A03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A55-B78B-4386-9534-71CD322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CC5-1EF4-4890-AE28-3F2D9B0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5AB-2838-488F-8A1B-05A5FE1A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3B6-DD19-409D-AADA-A22BCD19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BE7-DC77-4FFB-ACF7-1373064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2B5-2BB5-4A70-91F6-4CDC9EC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70D-6BF6-4EC1-BF4D-D2130C47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E26-B680-456D-A452-0A01280A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681-1C9A-480B-BFAE-49EDFE8A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21380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You will answer 20 questions on a SEPARATE sheet of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Each question will last 1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Be prepared to begin at the sound of the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016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  Which branch of government’s primary duty is to evaluate the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11464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4800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Who was the primary author of the Declaration of Independ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25720" cy="37335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295280" y="472428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.  Additions to the Constitution are call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5260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3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  Which Amendment ended sla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286000" y="-34920"/>
            <a:ext cx="476100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 The protection in the 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mendment that prohibits individuals from being tried for the same crime twice is call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5362560" cy="28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784680" y="3733920"/>
            <a:ext cx="5359320" cy="2822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3" name="push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.  Which Amendment granted women the right to vo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24360" cy="46353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.  What did the pilgrims sign in 1620 to set up representative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4976640" cy="418464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2361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.  Which Amendment provides for a direct tax on personal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.  What group was IN FAVOR of ratifying the Co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906800" cy="392904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. Name the rebellion that occurred during 1786-1787 over farm foreclosures in Massachuset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616120" y="342900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tarVader"/>
              </a:rPr>
              <a:t>UNIT II REVIEW QU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tarVader"/>
              </a:rPr>
              <a:t>ROAD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tarVader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"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. Who presided over the Constitutional Conven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663560" y="2514600"/>
            <a:ext cx="5216760" cy="2292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. What did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i-Federalists believe the Constitution DID NOT provide for the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124080" y="2843280"/>
            <a:ext cx="2590920" cy="39942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500360" cy="4500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. The _____ Plan called for representation to be based on population in a bicameral govern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What is the highest law of the l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029120" cy="4119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Explain the concept of Judicial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577880" y="1676520"/>
            <a:ext cx="5693040" cy="44193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3" name="push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4114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Name two personal liberties granted in the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mend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429000" y="152280"/>
            <a:ext cx="2521080" cy="3354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 Which branch of government’s primary duty is to make the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11464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4170240" cy="4170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6200" y="182844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Name a weakness of the Articles of Confeder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 Which branch of government’s primary duty is to enforce the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11464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 The introduction to the Constitution is call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726160" cy="37623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0:35:47Z</dcterms:created>
  <dc:creator>THOMAS_SAUER</dc:creator>
  <dc:description/>
  <dc:language>en-US</dc:language>
  <cp:lastModifiedBy>SysAdmin</cp:lastModifiedBy>
  <dcterms:modified xsi:type="dcterms:W3CDTF">2012-02-10T15:48:51Z</dcterms:modified>
  <cp:revision>55</cp:revision>
  <dc:subject/>
  <dc:title>1.  Why did President Truman decide to use the A-Bomb instead of invading Japan?</dc:title>
</cp:coreProperties>
</file>